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whoosh.wav" ContentType="audio/x-wav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3D4B-0664-41FB-8B88-AF20C8CBBC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44AFE-BD84-4617-94BE-BC42A0003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5198-112D-46AC-BD9A-C44B44EA5E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268A9-31A7-4D0A-ADC0-6EB0F97C43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BD493-65B8-4997-8A61-DDDAA2C315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5C5FF-1CCF-4B17-BD64-189C5DE4F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6DD4-896B-472D-BB06-420796B12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DAE752-E99A-4368-8CE9-8780DEAB9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95724A-3AEE-4C53-AF41-FC08CEFFF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AA2F2C-184F-479F-B5C2-AF08F93EE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AB6AE-03AE-47E8-B17C-A07DF7ABE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D8D4E-50EA-4F17-8E41-8702FC18A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32281-075F-4DC2-8214-E4263BE50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04A1B-504A-4DC1-BD3E-422FDB478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34A5E1-B4A8-469B-9162-221084C6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648B54-3840-4843-93D7-39718CF8A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520AA-F3C0-4C4F-A217-B77A90578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1CD9C-608B-4E67-9403-F28B1D129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58420-7B1D-4F7C-B299-392BD68F84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2C2ED-7225-4868-B494-75712AC6D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7BC70-584B-43C1-BDD2-DB27E8D6D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CFC62-517D-4679-8854-064E97FCE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73ADE-3B9D-49E4-BC4C-6382898F9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4E665-CE5E-456E-B31C-9EE5FA893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CF31C-32DD-4C7E-9083-3EBB3D27BA2C}" type="slidenum">
              <a:rPr b="0" lang="ru-RU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058F-2828-4F6B-9D45-3B58473791DD}" type="slidenum">
              <a:rPr b="0" lang="ru-RU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lisizina@mail.ifmo.ru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whoosh.wav"/><Relationship Id="rId2" Type="http://schemas.openxmlformats.org/officeDocument/2006/relationships/audio" Target="../media/whoosh.wav"/><Relationship Id="rId3" Type="http://schemas.openxmlformats.org/officeDocument/2006/relationships/audio" Target="../media/whoosh.wav"/><Relationship Id="rId4" Type="http://schemas.openxmlformats.org/officeDocument/2006/relationships/audio" Target="../media/whoosh.wav"/><Relationship Id="rId5" Type="http://schemas.openxmlformats.org/officeDocument/2006/relationships/audio" Target="../media/whoosh.wav"/><Relationship Id="rId6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71640" y="177300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Tahoma"/>
              </a:rPr>
              <a:t>Введение в специальность 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32000" y="3573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ма №2: Основы информатиз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ahoma"/>
              </a:rPr>
              <a:t>ЛИСИЦЫНА Любовь Сергеевна – д.т.н., проф., зав. Каф.</a:t>
            </a: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Кафедра  «Компьютерные образовательные технологии» СПбГУ ИТМО, 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ahoma"/>
              </a:rPr>
              <a:t>Тел. (812) 233-1961, </a:t>
            </a:r>
            <a:r>
              <a:rPr b="0" lang="en-US" sz="1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isizina@mail.ifmo.ru</a:t>
            </a: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0" y="-69840"/>
            <a:ext cx="9144000" cy="254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Способы получения информации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блюдение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турный или вычислительный эксперимен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на основе логического вывода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Различают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приор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 </a:t>
            </a:r>
            <a:r>
              <a:rPr b="1" lang="ru-RU" sz="3200" spc="-1" strike="noStrike">
                <a:solidFill>
                  <a:srgbClr val="000000"/>
                </a:solidFill>
                <a:latin typeface="Tahoma"/>
              </a:rPr>
              <a:t>апостериорную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информацию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0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20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Аспекты информации в процессах передачи 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агматическ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емантический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533520" indent="-53352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синтаксиче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Виды информации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ная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по областям: политическая, экономическая, биологическая и т.д.; по назначению: массовая и специальная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ехнич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Научно-техническ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Документальная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Понятие информационного ресурса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Любой вид деятельности человека обеспечивается ресурсами следующих 4-ех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идов: финансовыми, материальными, кадровыми и информационными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5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нформационный ресурс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факты, документы, данные и знания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сконцентрированные для отражения изменений, реально происходящих в мире, с целью применения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 подготовке кадров (ИР для образования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научных исследованиях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в материальном производств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1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2000"/>
                                        <p:tgtEl>
                                          <p:spTgt spid="12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иды знаний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декларативные (факторальны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онятийные (системны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процедурные (алгоритмические)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нятие технолог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хнология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от греч. «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chn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» - искусство, мастерство, умение)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 самом широком смысле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– наука о законах производства материальных благ, включающая в себя следующие три основные части: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1. идеологию; 2. орудия труда; 3. кадры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Отсюда и три составляющие технологии – </a:t>
            </a:r>
            <a:r>
              <a:rPr b="0" i="1" lang="ru-RU" sz="1600" spc="-1" strike="noStrike">
                <a:solidFill>
                  <a:srgbClr val="000000"/>
                </a:solidFill>
                <a:latin typeface="Tahoma"/>
              </a:rPr>
              <a:t>информационная, инструментальная и социальная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соответственно.</a:t>
            </a: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Технология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Tahoma"/>
              </a:rPr>
              <a:t>в узком смысле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для конкретного производства) – это совокупность действий для приемов и методов, определяющих последовательность реализации производственного процесса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2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Технология характеризуется 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целью, предметом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(предметной областью применения)</a:t>
            </a:r>
            <a:r>
              <a:rPr b="1" lang="ru-RU" sz="1600" spc="-1" strike="noStrike">
                <a:solidFill>
                  <a:srgbClr val="000000"/>
                </a:solidFill>
                <a:latin typeface="Tahoma"/>
              </a:rPr>
              <a:t> и средствами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2" dur="indefinite" restart="never" nodeType="tmRoot">
          <p:childTnLst>
            <p:seq>
              <p:cTn id="143" dur="indefinite" nodeType="mainSeq">
                <p:childTnLst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ahoma"/>
              </a:rPr>
              <a:t>Методология любой технологии включает в себя:</a:t>
            </a:r>
            <a:endParaRPr b="0" lang="en-US" sz="2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Декомпозици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(разбиение) производственного процесса на отдельные взаимосвязанные и подчиненные (упорядоченные) составляющие (стадии, этапы, фазы, операции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Реализаци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определенной последовательности выполнения операций, фаз, этапов и стадий производственного процесса в соответствии с целью техно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Технологическую документацию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, регламентирующую процесс подготовки и производства продукции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Этапы развития технологии (в цикле)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Выбор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базовой технологии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и непрерывное ее совершенствование до тех пор, пока это экономически целесообразно и выгодно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Отказ от существующей технологии и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переход на новую базовую технологию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, развивающуюся по законам первого этап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Понятие ИТ</a:t>
            </a:r>
            <a:r>
              <a:rPr b="0" lang="en-US" sz="48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нформационная технология (ИТ)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–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совокупность методов и способов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лучения, обработки, представления информации, направленных на изменение ее состояния, свойств, формы и содержания и осуществляемых в интересах пользователя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Т делятся на базовые, конкретные и специализированные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1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Задачи ИТ 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Задачи ИТ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можно определить в зависимости от уровня ее рассмотрения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Теоретический уровень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Исследовательский уровень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Прикладной уровень.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 Инструментальная страт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53352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- Предметная страта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3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План лекции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нятие информационного общества и процесса информатизаци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нятие информации, информационного ресурс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Определение и задачи информационных технологий (ИТ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онятие информационной системы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ИТ: системный взгляд на проблемы разработки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ahoma"/>
              </a:rPr>
              <a:t>Понятие информационной системы </a:t>
            </a:r>
            <a:endParaRPr b="0" lang="en-US" sz="2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Систем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(от греч.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ystema 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– целое, составленное из частей; соединение) научная категория, обозначающее множество элементов, связанных между собой различными отношениями и образующих определенную структуру, целостность и единство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Техническ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– искусственная система, создаваемая с целью реализации определенного перечня функций и оптимальной структуры системы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ahoma"/>
              </a:rPr>
              <a:t>Информационная система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(ИС) – техническая система, при построении которой использованы ИТ (технологии построения ИС) и которая, в свою очередь, создается  с целью обеспечения эффективности ИТ в данной предметной области (ИТ в экономике, производстве, образовании и т.п.)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Жизненный цикл системы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Различают следующие жизненные циклы системы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рыночны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когда система является конкурентоспособной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технологически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 когда технология системы является эффективной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Жизненный цикл системы имеет четыре фазы: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ектирование и создание системы – 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продвижение на рынке и опытная эксплуатация – Б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эксплуатация – В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пад – Г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2268360" y="4221000"/>
            <a:ext cx="4427640" cy="194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ahoma"/>
              </a:rPr>
              <a:t>ИТ: системный взгляд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Конкретная ИТ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– результат компиляции и синтеза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базовых технологических операций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пециализированных («отраслевых») технологий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средств реализации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Базовые информационные процессы: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звлеч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транспортирования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обработки,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хранения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представления и использования информации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ahoma"/>
              </a:rPr>
              <a:t>Базовые ИТ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"/>
          <p:cNvSpPr/>
          <p:nvPr/>
        </p:nvSpPr>
        <p:spPr>
          <a:xfrm>
            <a:off x="755640" y="2205000"/>
            <a:ext cx="777708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Мультимедиа-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Геоинформ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и защиты информ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SE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-технологии (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mputer Aided Software Engineering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– Компьютерное Автоматизированное Проектирование Программного обеспечения) является своеобразной «технологической оснасткой», позволяющей автоматизировать проектирование конкретных И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лекоммуникационные технолог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Технологии искусственного интеллек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Специализированные ИТ </a:t>
            </a:r>
            <a:br>
              <a:rPr sz="28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по областям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Т в образовании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Т в дизайне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Т для организационного управления (корпоративные ИТ)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ИТ в экономике и т.д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Средства реализации ИТ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Методически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Информационные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Математ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Алгоритмические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Технические и программные средства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333399"/>
                </a:solidFill>
                <a:latin typeface="Tahoma"/>
              </a:rPr>
              <a:t>Симптомы перехода в век информатизации</a:t>
            </a:r>
            <a:endParaRPr b="0" lang="en-US" sz="36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444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Быстрое сокращение времени удвоения объема накопленных научных знаний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 к 1800г. – 50 лет, к 1950г. – 10 лет, к 1970г.- 5 лет, н.вр. – менее 1 года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44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Материальные затраты на хранение, передачу и переработку информации начинают превышать аналогичные расходы на энергетику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4460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Перераспределение трудовых ресурсов </a:t>
            </a: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(в США сфера мат.производства и информационная сфера как 1:4)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444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Ежегодный рост объема мирового рынка ИТ – не менее 6%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ahoma"/>
              </a:rPr>
              <a:t>Информатизация – этап на пути перехода от индустриального общества к информационному обществу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Информационное общество – что это такое?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Информационное общество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– это общество, в котором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важнейший вид деятельности - производство и потребление информации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наиболее значимый ресурс - информация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базовые технологии техника - новые информационные и телекоммуникационные технологии и техника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среда обитания человека – информационная среда (наряду с социальной и экологической)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Характерные признаки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информационного общества: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Изменение структуры знани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(традиционные знания с 70% до 40%, прагматические с 15% до 10%, знания, направленные на развитие творческих способностей с 3% до 25%)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Инновационное развитие экономики -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экономики знани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Опережающее развитие образования для создания </a:t>
            </a:r>
            <a:r>
              <a:rPr b="0" i="1" lang="en-US" sz="1600" spc="-1" strike="noStrike">
                <a:solidFill>
                  <a:srgbClr val="000000"/>
                </a:solidFill>
                <a:latin typeface="Tahoma"/>
              </a:rPr>
              <a:t>человеческого капитала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экономики знаний и т.д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Ведущая роль информатик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Информатизация (как переходный этап к информационному обществу) базируется на развитии научного направления </a:t>
            </a:r>
            <a:r>
              <a:rPr b="1" i="1" lang="en-US" sz="1800" spc="-1" strike="noStrike">
                <a:solidFill>
                  <a:srgbClr val="000000"/>
                </a:solidFill>
                <a:latin typeface="Tahoma"/>
              </a:rPr>
              <a:t>информатики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Уровни развития информатики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444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изический – программно-аппаратные средства вычислительной техники и техники связ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444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Логический – информационные технологии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44460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Прикладной – пользовательские информационные системы (ИС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Этапы перехода к информационному обществу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Компьютеризация и начало воспитания новой информационной культуры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Развитие информационной инфраструктуры региона и начало формирования глобальной информационной сет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Формирование системы развития и удовлетворения основных информационных потребностей населения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Понятие информации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Термин «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информация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 произошел от лат. «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formatio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» – разъяснение, изложение, осведомленность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Информация – результат отражения, образ реального мира его части (</a:t>
            </a:r>
            <a:r>
              <a:rPr b="1" i="1" lang="ru-RU" sz="2000" spc="-1" strike="noStrike">
                <a:solidFill>
                  <a:srgbClr val="000000"/>
                </a:solidFill>
                <a:latin typeface="Tahoma"/>
              </a:rPr>
              <a:t>предметной области</a:t>
            </a: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или объекта), который в дальнейшем может существовать самостоятельно, независимо от самого материального объекта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Информац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это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2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бозначение содержания, полученного из внешнего мира (Н. Винер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2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сообщения, передаваемые получателю для уменьшения неопределенности (К. Шеннон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2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передача разнообразия (У. Эшби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2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вероятность выбора (А. Ягл)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30276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отрицание энтропии (Л. Бриллюен) и т.д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0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20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0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20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20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0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20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Современные оценки информации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Энтропия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– мера количества информации, вырабатываемой источником, пропускаемой каналом или попадающей к получателю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ahoma"/>
              </a:rPr>
              <a:t>Негэнтропия 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– мера порядка, упорядоченности, внутренней структуры связанной информации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Новое научное направление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– </a:t>
            </a:r>
            <a:r>
              <a:rPr b="1" i="1" lang="ru-RU" sz="1600" spc="-1" strike="noStrike">
                <a:solidFill>
                  <a:srgbClr val="000000"/>
                </a:solidFill>
                <a:latin typeface="Tahoma"/>
              </a:rPr>
              <a:t>инфодинамика</a:t>
            </a: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, которая связывает воедино массу, энергию и негэнтропию.</a:t>
            </a: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Tahoma"/>
              </a:rPr>
              <a:t>Аспекты понятия «информация»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. ИНФОРМАЦИЯ := ЗНАНИЕ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 ИНФОРМАЦИЯ – результат отражения процессов, происходящих только в биосфере и социальных системах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. АТРИБУТИВНОЕ ПОНЯТИЕ ИНФОРМАЦИИ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000"/>
                                        <p:tgtEl>
                                          <p:spTgt spid="1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2000"/>
                                        <p:tgtEl>
                                          <p:spTgt spid="1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10T13:27:18Z</dcterms:created>
  <dc:creator>lisizina</dc:creator>
  <dc:description/>
  <dc:language>en-US</dc:language>
  <cp:lastModifiedBy>lisizina</cp:lastModifiedBy>
  <dcterms:modified xsi:type="dcterms:W3CDTF">2009-10-13T06:44:24Z</dcterms:modified>
  <cp:revision>117</cp:revision>
  <dc:subject/>
  <dc:title>ТЕОРИЯ И ПРАКТИКА КОМПЕТЕНТНОСТНОГО  ОБУЧЕНИЯ И АТТЕСТАЦИЙ НА ОСНОВЕ СЕТЕВЫХ ИНФОРМАЦИОННЫХ СИСТЕМ</dc:title>
</cp:coreProperties>
</file>