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hoosh.wav" ContentType="audio/x-wav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545F-0099-4BBC-93C2-7647DDD4E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2D88-681D-4047-BA48-6D2704F80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4EA80-2730-4116-8BDE-31A8FC4E3D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D6FC1-81B8-44A2-9AE0-DDCD793072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A41DD-DD57-4E89-BA71-9861C27BA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C0D92D-761C-4572-B0AD-2E73CC7BE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1FD80-6016-4781-965D-C095E2DBE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9A16A-C8DA-4E65-880E-1C7B3BFE7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6285D-2F4D-4B0D-953E-611288E33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0B0C4-FDEB-4C99-A5F8-CB407616D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B297D-AE0E-4FF7-A71C-7BF041AAB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87A0C-FC7E-484F-8390-1DB44E0B0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9B194-03B2-4FEB-A2AC-630514A34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F1D67-FBC7-4469-8E1F-0295D0D27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E53D3-DF91-43FF-9B7D-87FBA8A28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9B927B-C9B7-4AA4-8802-63A018484E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EFE435-3139-4663-B408-60381EC1B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C81BD-D366-4783-9E69-32B28C4F6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960F-AC80-4A08-AE17-5057FF6573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AE6F3-F996-44D9-8603-16502C814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A47BD-D210-4365-B47E-2836AB664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644AF-AEDF-49C1-B3A1-C61957DDE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5AC09-65DA-4886-B9D7-015EC48C2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9C20-CAD7-4AC7-AB9E-7D1A31ABA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4C47-9AEF-4A50-94A2-0B567640892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5272C2-D3AE-4EC2-82AD-2C9C52ABC09F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isizina@mail.ifmo.ru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audio" Target="../media/whoosh.wav"/><Relationship Id="rId8" Type="http://schemas.openxmlformats.org/officeDocument/2006/relationships/audio" Target="../media/whoosh.wav"/><Relationship Id="rId9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audio" Target="../media/whoosh.wav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333399"/>
                </a:solidFill>
                <a:latin typeface="Tahoma"/>
              </a:rPr>
              <a:t>Введение в специальность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Тема №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: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волюция ИТ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ЛИСИЦЫНА Любовь Сергеевна – д.т.н., проф., зав. Каф.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Кафедра  «Компьютерные образовательные технологии» СПбГУ ИТМО, 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ahoma"/>
              </a:rPr>
              <a:t>Тел. (812) 233-1961, </a:t>
            </a:r>
            <a:r>
              <a:rPr b="0" lang="en-US" sz="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isizina@mail.ifmo.ru</a:t>
            </a: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69840"/>
            <a:ext cx="9144000" cy="25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Фаза 4: Технология оперативных БД на магнитных дисках и барабана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ехнология оперативных БД на магнитных дисках и барабанах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65-1980 гг.) связана с внедрением  оперативного доступа к данным (доли секунды для доступа к любому элементу) в интерактивном режиме, с использованием систем БД с оперативными транзакциям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собенности технолог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Интерактивное подключение к компьютер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ямая и индексно-последовательная организация наборов данны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Модели БД (от простых иерархических – к сетевым и простейшим реляционным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Виды схем для независимости данных в БД 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Логическая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Физическа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одсхема для программных приложений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Проблема – отсутствие навигационного программного интерфейс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Фаза 5: Технология реляционной БД с архитектурой «клиент-сервер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хнология реляционных БД с архитектурой «клиент-сервер»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1980-1995гг.) явилась откликом на проблему низкоуровневого интерфейса и широким распространением технологий компьютерных сете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Характерной особенностью таких БД является наличие унифицированного языка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QL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– стандарта дл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пределения данных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вигации по данным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анипулирования данным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Реляционная модель вместе с повышением продуктивности и простотой использования оказалась очень удобной для ее использования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архитектуре «клиент-сервер»,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параллельной обработке данных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в разработке графических пользовательских интерфейсов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Что такое компьютерная сеть?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мпьютерная сеть (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puter NetWork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net –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ть,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work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–работа) –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то система обмена информацией между компьютера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Главная цель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–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еспечение доступа для пользователя к локальным ресурсам любого из компьютеров се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сновные компоненты сет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Компьютеры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К, ноутбуки, мэйнфреймы…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Телекоммуникационное оборудование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коммутаторы, маршрутизаторы, линии связи…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Операционные системы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WinNT, Novell NetWare, Unix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Сетевые приложения –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етевые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ринтеры и диски, базы данных…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Классификация компьютерных сете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«географии» распространения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Локальные сети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    LAN (Local Area Networ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Глобальные сети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  WAN(Wide Area Networ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Городские сети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MAN(Metropolitan Area Network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масштабу производственного подразделения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Сети отделов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Сети кампусов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Корпоративные сети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способу управления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Сети «клиент-сервер»: сервер– поставщик услуг, клиент– потребитель услуг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Одноранговые сети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…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 структуре (топологии) связей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С топологией «Общая шин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С топологией «Звезда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С топологией «Кольцо»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С древовидной топологи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Со смешанной топологией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Наиболее распространенные виды сетей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ернет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) –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бщество международных и национальных компьютерных сете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Интранет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rane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 – внутренняя сеть организации, использующая протоколы, службы и технологии интернета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Экстранет (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ranet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) – корпоративная интранет, имеющая доступ к части ресурсов извне только для ограниченного числа пользователей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Технология «Клиент-Сервер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248520" y="327672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2514600" y="2971800"/>
            <a:ext cx="798480" cy="148608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685880" y="2155680"/>
            <a:ext cx="7197840" cy="37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бщая схема взаимодейств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4" name=""/>
          <p:cNvSpPr/>
          <p:nvPr/>
        </p:nvSpPr>
        <p:spPr>
          <a:xfrm>
            <a:off x="3276720" y="33526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419720" y="3809880"/>
            <a:ext cx="19047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H="1">
            <a:off x="4419720" y="3352680"/>
            <a:ext cx="76176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67080" y="4419720"/>
            <a:ext cx="1600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3885840" y="2590920"/>
            <a:ext cx="19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174200" y="2220840"/>
            <a:ext cx="1564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прос от кли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250880" y="4506840"/>
            <a:ext cx="266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Ответ сервера на запрос клиент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76520" y="5105520"/>
            <a:ext cx="6705360" cy="12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Times New Roman"/>
              </a:rPr>
              <a:t>Адресация компьютеров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Аппаратные адреса: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810005е24а0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имвольные адреса (доменные имена):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e.ifmo.r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876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Числовые составные адреса: </a:t>
            </a: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192.145.156.056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Основные понятия технологии «Клиент-Сервер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Сервер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– это программный модуль, который обслуживает запрос на доступ к ресурсам своего компьютера, а также компьютер, который предоставляет свои ресурсы другим компьютерам се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Клиент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 это программный модуль, который вырабатывает запросы на доступ к удаленным ресурсам и передает их по сети на нужный компьютер, а также компьютер, который потребляет локальные ресурсы других компьютеров се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Служба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– пара модулей «клиент-сервер», обеспечивающая совместный доступ к определенному типу ресурс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Сервис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– это описание набора услуг конкретной служб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Распределенная программа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– это программа, состоящая из нескольких частей: каждая часть выполняется, как правило, на отдельном компьютере сети (по аналогии обмена почтой между директорами организаций через своих секретарей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Протокол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– это правила взаимодействия между системами одного уровня (по аналогии взаимодействия по почте между секретарями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Интерфейс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– это набор функций, который предоставляет данный элемент вышестоящему элементу системы (по аналогии с функциями секретаря по отношению к своему директору)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Tahoma"/>
              </a:rPr>
              <a:t>Стек протоколов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– это набор протоколов разных уровней, достаточных для функционирования систем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Способы соединения компьютеров в сеть (топология)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орудование для формирования 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физической структуры связей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линии связи:    беспроводные (спутниковые и радиоканалы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                        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абельные (витая пара, толстый и тонкий коаксиал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сетевые адаптеры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повторители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repeater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нцентраторы (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hub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Оборудование для формирования </a:t>
            </a:r>
            <a:r>
              <a:rPr b="0" lang="ru-RU" sz="1400" spc="-1" strike="noStrike">
                <a:solidFill>
                  <a:srgbClr val="ff0000"/>
                </a:solidFill>
                <a:latin typeface="Tahoma"/>
              </a:rPr>
              <a:t>логической структуры связей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оммутаторы (switch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Маршрутизаторы (router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Шлюзы (gateway)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Что такое приложение «клиент-сервер»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иложение «клиент-сервер» разбивается на две части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лиентская часть отвечает за поддержку ввода и представление выходных данных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а серверная – за хранение БД, обработку клиентских запросов к БД, возврат клиенту результат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Вопросы для опроса остаточных знаний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о теме №2 – «Основы информатизации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Что следует понимать под «информатизацией»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сновные признаки (симптомы) перехода в век информатиза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Что следует понимать под «информационным обществом»?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сновные признаки информационного обществ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Уровни развития научного направления «Информатика»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нятие и аспекты информа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пособы получения информа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нятие априорной и апостериорной информа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нятие информационного ресурса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иды знан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нятие технолог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Методология разработки технолог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нятие информационной технолог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Задачи информационных технологий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нятие системы, жизненный цикл систем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нятие технической системы и информационной системы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нятие конкретной ИТ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Базовые информационные процессы и базовые ИТ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-60336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Средства реализации ИТ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60336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О для технологии «клиент-сервер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Технологии на стороне клиент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сценарии или скрипты на язык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Script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апплеты на языке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ava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программы по технологии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iveX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0000"/>
                </a:solidFill>
                <a:latin typeface="Tahoma"/>
              </a:rPr>
              <a:t>Технологии на стороне сервера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CGI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скрипты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PHP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сценарии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ASP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технология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SP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-технология,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Java-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ервлеты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Фаза 6: Технология мультимедийных БД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ехнология мультимедийных БД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с 1995 г.) связана с переходом к объектно-реляционным БД. 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звание технологии происходит от «мультимедиа» (от англ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media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многие средства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хнология позволяет хранить, обрабатывать и манипулировать объектами со сложным поведением (карты, видео-ролики и т.п.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лиенты и серверы строятся с использованием апплетов и «хелперов», которые сохраняют, обрабатывают и отображают данные того или иного типа (звук, графика, видео, электронные таблицы, графы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Аспекты эволюции И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 точки зрения эволюции носителей информаци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 точки зрения эволюции критериев разработки программного обеспечения (ПО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 точки зрения технологий управления данными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Эволюция носителей информац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скальные рисунки, символы (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20 тыс.ле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исьменность (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6 тыс. лет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: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камень,кость, дерево, глина, папирус, щелк, бумага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нигопечатание – эпоха массового тиражирования информации и пассивного хранения знаний (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1445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д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ино, радио, телевидение, аудио- и видеотехника (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20 век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ьютеры (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с 1946г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рнет – эпоха </a:t>
            </a:r>
            <a:r>
              <a:rPr b="0" lang="ru-RU" sz="2000" spc="-1" strike="noStrike">
                <a:solidFill>
                  <a:srgbClr val="ff0000"/>
                </a:solidFill>
                <a:latin typeface="Tahoma"/>
              </a:rPr>
              <a:t>активного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включения формализованных знаний в производственный процесс (80% трудовых ресурсов США занято в сфере ИТ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Эволюция критериев разработки ПО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Машинные ресурсы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 (до середины 60-ых годов)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ия времени и памяти, фаза «кустарного производства» программ и пакетной обработк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Программирова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 (до начала 80-ых годов)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экономия человеческих ресурсов, появление БИС и СБИС, микропроцессоров,  систем программирования и операционных систем типа ОС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NIX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Формализация знаний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(до 90-ых годов):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сширение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феры применен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явление систем автоматизации (САПР, АСУ, АСУ ТП, ГАП) для непрограммистов-профессионал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тернет-технологи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 (н.вр.):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приложения для широкого круга пользователей-непрограммист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истемный взгляд на эволюцию ИТ: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Эволюция с точки зрения развития технологий управления данным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Фаза 1: Ручная обработка информ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течение 6 тыс. лет (с 4000 г. до н.э. – 1900г.) наблюдалась эволюция носителей информации (от глиняных таблиц к папирусу, а затем к бумаге), информация обрабатывалась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вручну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иболее значимые достижения этого периода связаны с появлением книгопечатания (1445г.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Фаза 2: Технология перфокар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ехнология перфокар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00-1955 гг.), когда запись данных производилась в двоичной системе счисления, а для их сбора и обработки использовались электромеханические устройства и компьютеры (первый компьютер появился в 1946г.).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Фаза 3: Технология магнитных лент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Технология магнитных лент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(1955-1980 гг.) использовала программируемое оборудование обработки информации – электронные компьютеры с хранимыми программам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собенности технолог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следовательная организация наборов данны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акетная обработка транзакц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13T06:42:57Z</dcterms:created>
  <dc:creator>lisizina</dc:creator>
  <dc:description/>
  <dc:language>en-US</dc:language>
  <cp:lastModifiedBy>lisizina</cp:lastModifiedBy>
  <dcterms:modified xsi:type="dcterms:W3CDTF">2009-10-17T10:05:17Z</dcterms:modified>
  <cp:revision>4</cp:revision>
  <dc:subject/>
  <dc:title>  Введение в специальность </dc:title>
</cp:coreProperties>
</file>