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85469-5F3C-42B8-A443-A52706495B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4F4F1-C7F2-45E6-ACD7-414D7FE3D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50FB7-3B3D-442D-B9B0-E13CFAB90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D5C8-60C7-49B3-B532-859E23E21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E2DDA-FD3E-41AA-9576-3800D46D36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870FF-FD62-41A5-B2F5-E82CAEC32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28D419-AF93-4543-B60D-FFC366814B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1FE30-9672-4DDB-A4FB-CFAD38BE78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F41A7-128F-44F0-AF8B-4A8B30CBB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7DB45-B233-4C2E-8A32-7DAAC5D66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2770F-1E65-4C1D-81F0-389B7B4FA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115BD-9FD1-44E8-86CE-E66F9DFC0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50FEF3-3D3B-4467-9100-62E83BB48B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2E062-01B4-4D60-AD0B-EAFD2DC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9E9B8-B251-4CE8-BB3B-8A020D5D5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D65E0-D398-492C-9D5B-428B21EA5A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BF82C-BECA-4DC0-8C62-A9949C852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9D6B-3C70-44F0-9E6B-F38217645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E664-F80E-45AA-AF9C-E2C706C7F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C93F-EE6D-48A0-ABBC-988D0F11A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0D26D-7C4E-4A6F-8E45-064521A4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A2D4-5951-46FF-B5DA-CF1282F5A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7B508-D144-4ECD-AEE5-EE8AE59D1C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19AB7-DD95-4002-AAEA-F662A03E4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72C90-3778-4027-B56A-82B21360CCB3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97168-BCD1-49C0-977B-589D7936D1D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sizina@mail.ifmo.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Введение в специальность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ма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Базовые информационные процессы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ЛИСИЦЫНА Любовь Сергеевна – д.т.н., проф., зав. Каф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Кафедра  «Компьютерные образовательные технологии» СПбГУ ИТМО,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Тел. (812) 233-1961, </a:t>
            </a:r>
            <a:r>
              <a:rPr b="0" lang="en-US" sz="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sizina@mail.ifmo.ru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69840"/>
            <a:ext cx="914400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роцессы принятия решений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и выбор стратег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условиях определенности (используются методы мат. программирования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условиях риска (вероятностные методы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условиях неопределенности (на основе внешних оценок выигрыш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 условиях многокритериальности (методы моделирования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Хранение дан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азовые термины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БАЗА ДАННЫХ, БАНК ДАННЫХ, СИСТЕМА БАЗ ДАННЫХ, ХРАНИЛИЩЕ ДАННЫХ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ta Warehouse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, ВИТРИНЫ ДАННЫХ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Data Mart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, РЕПОЗИТАР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Уровни представлений для описания предметной област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цептуальный: отличается разнообразием используемых моделей (модель «сущность-связь»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R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модель, инфологическая модель и др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логический: иерархические (совокупность деревьев или лес), сетевые (орграф со связями «многие к одному») и реляционные модели данных (в виде таблиц (реляций) с отношениями на основе реляционной алгебры и теории отношений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изический или внутренний: определяется конкретным методом управления данными; осн. компоненты – записи, блоки, промежутки между блоками, служебная информац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Классификация БД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способу хранения информ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тегрирован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спределен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типу пользователей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нопользовательск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ногопользовательск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характеру использования данных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кладны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метны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пособы реализации СУБ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особы реализации СУБД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граммный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ппаратный (МБД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Tahoma"/>
              </a:rPr>
              <a:t>Функции программных модулей СУБД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писание данных на конц. и лог. уровня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загрузка данны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хранение данны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оиск и ответ на запрос (транзакцию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внесение измене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ение безопасности и целостност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2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2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2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2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12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2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Стандарты СУБД (МБД):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зависимость данных на всех трех уровнях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Универсальность (по отношению к конц. и лог. уровням, типу ЭВМ)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вместимость, неизбыточность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Безопасность и целостность данных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Актуальность и управляемост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едставление предметной област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1547640" y="1989000"/>
            <a:ext cx="667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мер концептуального представления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едметной БД «СБЫТ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050920" y="1844640"/>
            <a:ext cx="6391440" cy="478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имер логического представления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едметной БД «СБЫТ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476360" y="1971720"/>
            <a:ext cx="6829560" cy="488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Критерии оценки БД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Количественные: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ремя, необходимое для ответа на запрос; стоимость модификации; стоимость памяти; время на создание; стоимость реорганизации и др. 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Tahoma"/>
              </a:rPr>
              <a:t>Качественные: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гибкость, адаптивность, доступность для новых пользователей, совместимость с другими системами, возможность восстановления, возможность расширения и распределения и др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сновные принципы </a:t>
            </a:r>
            <a:br>
              <a:rPr sz="2800"/>
            </a:b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организации хранилища данных (ХД)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435640" y="1844280"/>
            <a:ext cx="3519360" cy="428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метная реализация: каждая оперативная БД поддерживает несколько предметных областей – источник для Х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ства интеграции: общий тип для разных представлений одних и тех же сущносте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стоянство данных: за счет реализации модел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массовых загрузок» данных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Хронология данны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250920" y="2708280"/>
            <a:ext cx="5013360" cy="332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Вопросы для опроса остаточных знаний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о теме №3 – «Эволюция ИТ»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В каких аспектах можно рассматривать эволюцию И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очему сегодня эволюцию ИТ не рассматривают как эволюцию носителей информаци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основные этапы в эволюции критериев разработки ПО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колько этапов (фаз) насчитывает эволюция ИТ с точки зрения смены технологий управления данным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е фазы эволюции ИТ связаны с эволюцией носителей информаци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м образом осуществлялось управление данными в технологии магнитных лен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м образом осуществлялось управление данными в технологии оперативных БД на основе магнитных дисков и барабанов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м образом в этой технологии обеспечивалась независимость данных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ая проблема вызвала переход к следующей фазе в развитии И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«компьютерная сеть» (КС)? Назовите основную цель функционирования КС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основные признаки, используемые для классификации К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и определите основные виды КС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ишите общую схему взаимодействия в КС по технологии «клиент-сервер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и определите основные понятия технологии «клиент-сервер»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м образом строится приложение «клиент-сервер»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технологии программирования на стороне сервер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технологии программирования на стороне клиент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основные признаки технологии мультимедийных Б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едставление и использование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Факторы, имеющие наибольшее значение для деятельности человек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399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эргономические (рациональный набор функций человека, рациональное сопряжение человека с ТС и средой ИС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399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сихологические ( психологический барьер, усложнение деятельности, др. субъективные факторы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арианты интерфейсов в системе «человек-компьютер»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399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основе меню: «Смотри и выбирай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399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на основе языка команд: «Вспоминай и набирай»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7" dur="indefinite" restart="never" nodeType="tmRoot">
          <p:childTnLst>
            <p:seq>
              <p:cTn id="298" dur="indefinite" nodeType="mainSeq">
                <p:childTnLst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Принципы разработки пользовательских интерфейсов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льзовательский интерфейс целесообразно строить на основе концептуальной модели предметной област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Доступ к объектам и их экземплярам возможен только через систему окон различных типов (ряд окон должен быть связан с конкретным объектом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ценарий работы пользователя с ИС включает две фазы: выбор окна и работа с окн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роектирование пользовательского интерфейса – процесс спецификации окон, по существу спецификация задает сценарий работы с экземплярам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пецификацию окон следует проводить в соответствии с функциональной потребностью: выделять разделы, строить иерархию разделов, указывать допустимые режимы работы с экземплярами объект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ahoma"/>
              </a:rPr>
              <a:t>Основные функции фазы выбора объектов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755640" y="2205000"/>
            <a:ext cx="777708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бота с общим каталогом окон в главном раздел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оздание нового раз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Удаление раз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едактирование описания раздела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ередача определений и окон между разде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Движение по иерархии разде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бор разделов для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тбор окон для работы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Базовые информационные процес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влечение информа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анспортирование информац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ботка информации;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ранение информац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ие и использование информации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Извлечение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7280" y="19890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Формы оценки извлекаемой информ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187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интаксическая ценность (правильность представления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187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антическая (смысловая) це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" indent="1872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гматическая (пользовательская) ценность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1979640" y="1844640"/>
            <a:ext cx="5602320" cy="283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0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Формы и методы исследования данных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оиск ассоциаций, связанных с привязкой к какому-либо событию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становление последовательности событий во времен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явление закономерностей (причинно-следственных связей между параметрами объекта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оценка важности (влияния) параметров на развитие ситуации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лассификация (распознавание) объектов (событий, ситуаций, процессов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кластеризация, основанная на группировании объектов по каким-либо признакам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огнозирование событий и ситуац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бъектно-ориентированный подхо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Базовые понятия: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КТ, АТРИБУТЫ, ЭКЗЕМПЛЯР ОБЪЕКТА, КЛАСС, ЭЛЕМЕНТ КЛАСС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Особенности подход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капсуляция (сокрытие данных и методов для объект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лиморфизм (многотипность объекта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аследование (новые классы определяются путем добавления или переопределения данных и методов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Методы обогащения информаци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уктурны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атистические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емант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 algn="ctr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агматические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Транспортирование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355640" y="1989000"/>
            <a:ext cx="4599000" cy="41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OSI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Open System Intercongtcion –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связь открытых систем) - эталонная модель сетевого обмена, разработанная международной организацией по стандартизации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Уровни представления в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SI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физически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управление физическими цепям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канальны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управление звеном сети – каналом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етевой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(управление виртуальной цепью, маршрутизация пакетов данных в сети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транспортны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контроль очередности пакетов и их принадлежности по аналогии с телефонной коммутац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сеансовы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установление и завершение виртуальной связи по аналогии с голосовой телефонией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уровень представления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преобразование (конвертирование, сжатие, распаковка и т.п.) данных из формата передающего компьютера в формат компьютера-получателя);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прикладной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(поддержка пользователя на более высоком прикладном и системном уровнях)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324000" y="2997360"/>
            <a:ext cx="3960720" cy="193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ротоколы сетевого взаимодействия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одел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содержит общие рекомендации, требования к  конкретным компонентам сетевого ПО задаются 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Tahoma"/>
              </a:rPr>
              <a:t>протоколам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о степени близости к физической среде передачи данных различают протокол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4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ижнего уровня (канальный и физический уров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S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, например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DIS, OD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4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реднего уровня (сетевой, транспортный и сеансовый уровн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OSI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делятся на сеансовые и дейтаграммные проколы; содержат следующие этапы: инициализация связи, непосредственный информационный обмен, завершение обмена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452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верхнего уровня (уровень представления и прикладной уровень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SI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бработка информации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следовательная (один процессор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араллельная (несколько процессоров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algn="just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вейерная (одни и те же ресурсы для решения различных задач) последовательная и векторная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новные процедуры обработки информ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здание данных в результате выполнения некоторого алгоритма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модификация данных как результат отображения изменений в реальной предметной облас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контроль, безопасность и целостность данны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иск информации (выполнение ответов на запросы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оддержка принятия реш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создание документов, сводок, отчетов и т.д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27:18Z</dcterms:created>
  <dc:creator>lisizina</dc:creator>
  <dc:description/>
  <dc:language>en-US</dc:language>
  <cp:lastModifiedBy>lisizina</cp:lastModifiedBy>
  <dcterms:modified xsi:type="dcterms:W3CDTF">2009-10-28T15:02:40Z</dcterms:modified>
  <cp:revision>135</cp:revision>
  <dc:subject/>
  <dc:title>ТЕОРИЯ И ПРАКТИКА КОМПЕТЕНТНОСТНОГО  ОБУЧЕНИЯ И АТТЕСТАЦИЙ НА ОСНОВЕ СЕТЕВЫХ ИНФОРМАЦИОННЫХ СИСТЕМ</dc:title>
</cp:coreProperties>
</file>