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F028-C0FD-4329-AB4E-7F6780C41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3244-AE92-4143-80C6-D233C5B3CD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F6853-6681-4214-9577-1FF56F1D1A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A1C5-470C-4055-A5AE-2E56EDCE5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C14617-288E-4ED0-8054-4DA34892F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EF1A-7839-43E1-B49C-1743AB7EEF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E3D6D-4F5E-4E18-9FA5-7645E909F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3AA08-FB0A-4CE6-B852-2CE245C2E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0468-449C-4502-AA5A-4AA003EC6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B002C-73F5-44A9-8BEC-70FFB34ED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FE962-EF0B-4765-BC88-818EE8717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39C42-F1F7-4428-A31E-5991FEC4D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4AF52-81EF-4281-ABF5-ACDD239ED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F5F01-7183-4587-AEC9-FB28C951A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4A59AD-5A1B-48DB-A188-A8516E90B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99FC3-9F8A-48C3-A6FA-9D241CA84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80705-9D45-4984-B67E-AD46730992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A8115-73AC-4BF1-8050-DC529D8AC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85C10-5414-4B00-8BF3-7EC49CE163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A0FE-3A61-470F-8F46-76F9AD96A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C9A5-9029-4638-9B70-F020AC2AE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34EAC-9045-4D0D-BDFB-0E62284C6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240EF-AA5E-4A5C-9B66-B90591B03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9C06E-4EE1-401F-9BA4-34FA2AF66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AE1AF-EA81-40D7-A0D2-555F65A8F8E2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3453A-A90A-4478-876E-E34F0B4DC12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sizina@mail.ifmo.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Введение в специальность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ма №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5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: Базовые информационные технологии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ЛИСИЦЫНА Любовь Сергеевна – д.т.н., проф., зав. Каф.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Кафедра  «Компьютерные образовательные технологии» СПбГУ ИТМО, 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ahoma"/>
              </a:rPr>
              <a:t>Тел. (812) 233-1961, </a:t>
            </a:r>
            <a:r>
              <a:rPr b="0" lang="en-US" sz="9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sizina@mail.ifmo.ru</a:t>
            </a: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69840"/>
            <a:ext cx="914400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Графическая среда в ГИС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Графический образ, формируемый в ГИС, состоит из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рафической подложки (фона) – площадного или пространственного двухмерного изображения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графических объектов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Координатные классы данных в ГИС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: точка, линия, контур (замкнутая линия), полигон (ареал, район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Типы взаимосвязе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– для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построения сложных объектов из простых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ычисляемые по координатам объектов,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пределяемые при вводе данных с помощью специального описания и семантик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ипы моделей для графической сред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Векторная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бинарная) модель в транспортных, коммунальных, маркетинговых и т.д. приложениях ГИС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Растровая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(ячеистая) модель объекта (территории) в виде регулярной сети, в которой каждая ячейка моделирует равный по размерам, но отличный по характеристикам (цвет, плотность) участок поверхност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В зависимости от </a:t>
            </a:r>
            <a:r>
              <a:rPr b="0" i="1" lang="ru-RU" sz="1400" spc="-1" strike="noStrike">
                <a:solidFill>
                  <a:srgbClr val="000000"/>
                </a:solidFill>
                <a:latin typeface="Tahoma"/>
              </a:rPr>
              <a:t>вида ячеек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 растровые модели делятся на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 регулярные (квадрат, треугольник, шестиугольник)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 нерегулярные (треугольные сети неправильной формы и полигоны Тиссена),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- вложенные (рекурсивные или иерархические)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значение векторных моделей - определение местоположения объекта, т.е.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ходится объект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Назначение растровых моделей – определение </a:t>
            </a:r>
            <a:r>
              <a:rPr b="1" lang="ru-RU" sz="1400" spc="-1" strike="noStrike">
                <a:solidFill>
                  <a:srgbClr val="000000"/>
                </a:solidFill>
                <a:latin typeface="Tahoma"/>
              </a:rPr>
              <a:t>того</a:t>
            </a: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, что расположено в данной точке объекта (н-р, обработка аэрокосмических снимков). 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1042920" y="4005360"/>
            <a:ext cx="3865680" cy="117936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4788000" y="4076640"/>
            <a:ext cx="4211640" cy="118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Что представляет собой электронная карта?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076360" y="2060280"/>
            <a:ext cx="3878280" cy="40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на может быть организована в виде множества слоев (покрытий или карт подложек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аждый слой в ГИС – цифровая картографическая модель, построенная на основе объединения (типизации) пространственных объектов с общими функциональными признакам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559320" cy="38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Особенности ГИС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 проектировании ГИС  важным моментом является выбор размерности модел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вухмерная (2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для построения карт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рехмерная (3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) для моделирования геологических процессов, проектирования инженерных сооружений (плотин, водохранилищ, карьеров и др.), моделирования потоков газов и жидкосте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ИС обеспечивает комплексную обработку информаци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Сбор первичных данных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копление и хранение информации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Моделирование (семантическое, имитационное, геометрическое, эвристическое)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Автоматизированное проектирование,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окументационное обеспечение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Примеры ГИ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R Mapper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для обработки больших фотографичической информации, тематическое картографирование (геофизика, природные ресурсы, лесное хоз-во). Достоинства: точность, печать карт, визуализация 3-мерного изображения, библиотека алгоритмов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tlasGIS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США) – полнофункциональная картографическая ИС для анализа и презентаций. Достоинства: легкость и гибкость ПО, настольный вариант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</a:t>
            </a: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Ddy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Германия) для создания кадастровых и геоинф. систем (топографическая съемка, городское хозяйство, промышленность). Достоинства: объектно-ориентированная технология, развитая модульная структура, разработка польз. Приложений на языке Си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RDAS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для обработки аэрокосмических снимков. Достоинства:  модульность системы, графический интерфейс, простотота обучения, многоплатформенность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Технологии защиты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333399"/>
                </a:solidFill>
                <a:latin typeface="Tahoma"/>
              </a:rPr>
              <a:t>Виды информационных  угроз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2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тказы и нарушения работоспособности ПО и ТС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рушения физической и логической целостности данных в следствие старения или преждевременного износа их носителе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рушения из-за старения и преждевременного износа  аппаратных средст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арушения физической и логической целостности данных в следствие некорректного использования компьютерных ресурсо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шибки в программных средствах, не устраненные в ходе отладки и испытания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намеренные угрозы, заранее планируемые злоумышленниками для нанесения вреда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грозы, реализация которых выполняется при постоянном участии челове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Угрозы без непосредственного участия человека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1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13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3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3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3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333399"/>
                </a:solidFill>
                <a:latin typeface="Tahoma"/>
              </a:rPr>
              <a:t>Способы защиты информации в КС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несение избыточности компьютерных ресурсов (структурной, информационной и функционально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щита от некорректного использования ресурсов КС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Выявление и своевременное устранение ошибок на этапах разработки программно-аппаратных средст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333399"/>
                </a:solidFill>
                <a:latin typeface="Tahoma"/>
              </a:rPr>
              <a:t>Способы защиты информации от угроз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рет несанкционированного доступа к ресурсам ВС (подтверждение подлинности пользователя и разграничение их доступа к ресурсам, использование простых и динамически изменяющихся паролей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рет несанкционированного использования ресурсов при осуществлении доступа (разграничение доступа по спискам или матрицам установления полномочий, разграничение по уровням секретности и категориям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Запрет несанкционированных действий, устранение их причин и последствий (криптографическая защита, своевременное уничтожение данных, защита от компьютерных вирус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Особенности криптограф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Криптограмма (шифротекст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это последовательность знаков, в которую преобразуется некоторый исходный (открытый) текст с помощью шифра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Шифр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содержит два элемента: алгоритм и ключ. Ключ задает некоторые параметры алгоритма, обеспечивающего шифрование и дешифрование информации. Для похищения информации надо знать ключ и алгоритм шифрования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ипы криптографических систем (по способу использования ключей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имметрические (одноключевые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симметрические (двухключевые или системы с открытым ключом) используются только для шифрования секретных ключей или для формирования цифровой подписи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1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Вопросы для опроса остаточных знаний </a:t>
            </a:r>
            <a:br>
              <a:rPr sz="2400"/>
            </a:b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 теме №4 – «Базовые информационные процессы»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базовые информационные процесс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ишите схематично процесс извлечения ин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формы оценки извлекаемой ин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объект и экземпляр объекта? Приведите пример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класс и элемент класса? Приведите пример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атрибут? Приведите примеры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и охарактеризуйте особенности объектно-ориентированного подхода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начение модели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, разработанной международной организацией по стандартизации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ISO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. Что она содержит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Сколько уровней представления информации в модели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SI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?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ишите схематично транспортирование информации, осуществляемого  в соответствии с этой моделью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Перечислите основные процедуры в базовом информационном процессе по обработке информации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е условия для оценки и выбора стратегии могут создаваться в процессах принятия решени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м отличается база данных от банка данных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представляет собой система БД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ем отличается склад данных от витрины данных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е данные содержит репозитарий и кем он используетс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Назовите уровни представления данных. Какой уровень зависит от метода доступа к данным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СУБД? Назовите основные функции СУБД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Опишите схематично организацию хранения данных с использованием хранилища данных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е факторы должны учитываться при разработке процесса представления информации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Какие варианты интерфейсов «человек-компьютер» используются сегодня? Для кого они предназначены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554400" indent="-554400">
              <a:lnSpc>
                <a:spcPct val="80000"/>
              </a:lnSpc>
              <a:spcBef>
                <a:spcPts val="300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ahoma"/>
              </a:rPr>
              <a:t>Что такое сценарий интерфейса? Как он проектируется?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03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3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03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03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7" end="1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18" end="1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19" end="1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20" end="2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Примеры отечественных средств защиты информ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нег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программно-аппаратное средство для защиты информации от несанкционированного доступа  в ПЭВМ и ЛВС (1-ая версия) и программное средство (2-ая версия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Спектр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– программное средство для построения системы защиты информации от несанкционированного доступа для различных классов ПЭВМ под управлением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indows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95,98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CASE</a:t>
            </a:r>
            <a:r>
              <a:rPr b="0" i="1" lang="ru-RU" sz="3200" spc="-1" strike="noStrike">
                <a:solidFill>
                  <a:srgbClr val="333399"/>
                </a:solidFill>
                <a:latin typeface="Tahoma"/>
              </a:rPr>
              <a:t>-техн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ласть применения: поддержка и автоматизация процессов инжиниринга (разработки программной системы) и реинжиниринга (модернизации программной системы)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овременные подходы к разработке ПО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Функционально-модульный (структурный)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Объектно-ориентированный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достатки структурного подхода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днонаправленность информационных потоков и недостаточная обратная связь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Неоднородность ИР, используемых в большинстве ИС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Что такое </a:t>
            </a:r>
            <a:r>
              <a:rPr b="0" lang="en-US" sz="3600" spc="-1" strike="noStrike">
                <a:solidFill>
                  <a:srgbClr val="333399"/>
                </a:solidFill>
                <a:latin typeface="Tahoma"/>
              </a:rPr>
              <a:t>CASE</a:t>
            </a: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-технология?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технология – это комплекс ПС для поддержки процессов создания и сопровождения ПО, включая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ализ и формулировку требований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ектировани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нерацию код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стировани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документирование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еспечение качества,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правление проекто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азличают следующие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иды 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-технологий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технологии, ориентированные на структурный подход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технологии, ориентированные на объектно-ориентированный подход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мбинированны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технологии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4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4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48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пецификация ОМА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онсорциум ОМ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более 500 ведущих комп. Компаний: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un, DEC, IBM, HP, Motorol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 др.) для разработки спецификаций и стандартов по разработке и созданию распределенных объектных систем в разнородных средах. Базис – спецификация ОМ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пецификация ОМА содержит следующие 4-ре компоненты – спецификации различных уровней поддержки приложений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рхитектура брокера запросов объектов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RBA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пределяет механизмы взаимодействия в разнородной сети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ъектные сервисы (для создания приложений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Универсальные средства (для поддержки пользовательских приложений: электронная почта, средства печати и др.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икладные объекты (объекты приложений) для решения конкретных прикладных задач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Концепция идеального объектно-ориентированного </a:t>
            </a: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CASE</a:t>
            </a: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-средств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спользование унифицированного метода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ML (Unified Modeling Language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унифицированный язык моделирования); авторы различных версий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UML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Г. Буч, Д. Рамбо, И. Джекобсон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Инжиниринг – это спиральный цикл итеративного чередования следующих этапов: анализ-проектирование-реализация (программирова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Реинжиниринг - это спиральный цикл итеративного чередования следующих этапов: восстановление исходной модели ПС -проектирование новой ПС – изменение текста ПС (программирование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средство в идеале должно содержать 4-ре основных блока: АНАЛИЗ, ПРОЕКТИРОВАНИЕ, РАЗРАБОТКА и ИНФРАСТРУКТУР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Телекоммуникационные техн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сновы телекоммуникац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азновидности архитектур КС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дноранговая (мейнфрейм)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лассическая «клиент-сервер»;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«клиент-сервер» на основе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-приложений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Структура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-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ложения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онент представления - КП(для интерфейса с пользователем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икладной компонент - ПК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Компонент доступа к инф. ресурсам или менеджер ресурсов - СУБД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Основные модели в архитектуре «клиент-сервер»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ухзвенная модель доступа к удаленным данным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ухзвенная модель сервера управления данными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вухзвенная модель комплексного сервера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ехзвенная модель в архитектуре «клиент-сервер»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дель доступа к удаленным данным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6920" y="3860280"/>
            <a:ext cx="7767720" cy="22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собенности модели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Невысокая производительность, т.к. вся обработка происходит на рабочих станц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тери времени при передачи больших объемов с сервера на рабочую станцию для обработк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1258920" y="1989000"/>
            <a:ext cx="6959520" cy="138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азовые И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"/>
          <p:cNvSpPr/>
          <p:nvPr/>
        </p:nvSpPr>
        <p:spPr>
          <a:xfrm>
            <a:off x="755640" y="2205000"/>
            <a:ext cx="7777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Мультимедиа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оинформ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и защиты информ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-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лекоммуникационные техн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352440">
              <a:lnSpc>
                <a:spcPct val="100000"/>
              </a:lnSpc>
              <a:buClr>
                <a:srgbClr val="000000"/>
              </a:buClr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Технологии искусственного интеллек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дель сервера управления данным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6920" y="4220640"/>
            <a:ext cx="7696440" cy="23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Особенности модели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Резкое сокращение объемов информации, передаваемых по сети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Унификация и широкий выбор средств создания приложений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Затруднительность совершенствования вычислительной системы из-за того, что между КП и ПК практически нет разграничения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ПК должен быть несложным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1692360" y="1844640"/>
            <a:ext cx="6337080" cy="251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дель комплексного сервер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02920" y="5157720"/>
            <a:ext cx="7047000" cy="140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Особенности модели: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Высокая производительность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Централизованное администрирование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Экономия ресурсов сети;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3333cc"/>
              </a:buClr>
              <a:buSzPct val="6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Эффективна только для крупных сетей с постоянно увеличивающимися объемами информации.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755640" y="1989000"/>
            <a:ext cx="7862760" cy="299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Трехзвенная модель в архитектуре «клиент-сервер»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11280" y="5084280"/>
            <a:ext cx="8532720" cy="152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собенности модел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рвер приложения (один или несколько) реализует несколько функций, каждая функция оформляется как отдельная служба и предоставляется нескольким программам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900000" y="1844640"/>
            <a:ext cx="7921800" cy="302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333399"/>
                </a:solidFill>
                <a:latin typeface="Tahoma"/>
              </a:rPr>
              <a:t>Технологии искусственного интеллект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онятие интеллектуальной системы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В ней должны быть реализованы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ункции представления и обработки знаний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ункции рассуждения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ункции общения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Общая структура интеллектуальной И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шина БЗ - это Система управления БЗ и следующие блоки (базы):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за фактов, База правил (продукций)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за процедур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за закономерностей,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аза метазнаний, База целей (сценарии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Решатель – это Система управления решателем и следующие блоки: дедуктивный вывод (новые факты на основе эффективных эвристик); индуктивный и правдоподобный вывод (поиск по аналогии, по прецеденту и т.п.); планирование; функциональное преобразование (для решения задач расчетно-логического и алгоритмического типов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стественно-языковый интерфейс пользователя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иды интеллектуальных ИС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349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Интеллектуальные информационно-поисковые системы (на основе лингвистического процессора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Экспертные системы (для слабо формализуемых областях – медицина, биология, геология и др.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Расчетно-логические системы (для решения управленческих и проектных работ; семантическая сеть для модели БЗ, дедуктивный вывод и планирование)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Гибридные экспертные системы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одели для представления знаний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мантические сети (вершины моделируют понятия, дуги – отношения между понятиями, направление дуги – и метки – семантику отношений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Фреймы (сети фреймов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одукционные модел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Фреймовая модел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рейм – структура данных для представления и описания стереотипных объектов, событий и ситуаций. Фреймы бывают двух видов – образец (прототип) и экземпляр (пример). Фрейм можно представить следующим кортежем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&lt;</a:t>
            </a: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Ф, (ИС, ЗС, ПП), …, (ИС, ЗС, ПП)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&gt;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де ИФ – имя фрейма, ИС – имя слота, ЗС – значение слота, ПП – имя присоединенной процедуры (процедуры-демоны и процедуры-слуги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Фреймовая модель состоит из 2-х частей: набор фреймов и механизм его преобразований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родукционная модель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родукционная модель – это набор правил вида «условие-действие», где условиями являются утверждения о содержимом БД, а действия – процедуры, которые могут изменять содержимое БД. Формально продукция выглядит следующим образом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i); Q; P; C; A -&gt; B; N,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де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имя продукции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Q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сфера применения правил, Р – предусловие (например, приоритетность), С – предикат (отношение)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 -&gt; B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ядро,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постусловия (изменения, вносимые в систему правил)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хема построения продукции: ЕСЛИ …, ТО …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Мультимедиа - технолог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Предметные области применения: образование, игровой бизнес, САПР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Н</a:t>
            </a: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азначение мультимедиа-технологии:</a:t>
            </a:r>
            <a:br>
              <a:rPr sz="2800"/>
            </a:b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3524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ъединение многокомпонентной инф. среды (текста, звука, графики, фото, видео) в однородном цифровом представлен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Обеспечение надежного и долговечного хранения информации больших объемов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остота переработки информации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Носители: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D-ROM, Video-CD, CD-audio, DVD…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Группы, выделяемые в мультимедиа-среде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349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аудиоряд</a:t>
            </a: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ожет включать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AV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- речь, музыку, звуковые эффекты (гром, шум, скрип и т.п.) и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IDI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звуки музыкальных инструментов вместе с музыкальными редакторами (программы секвенсоры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видеоряд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может быть статическим (графика и фото) и динамическим (последовательность статических элементов – кадров)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кстовая информация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руппы динамического видеоряда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бычное видео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ife video)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24 кадра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е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квазивидео – 6-12 кадров в сек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3492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анимация – последовательность рисованных изображений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роблемы мультимедиа технологий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1. Разрешающая способность экрана и количество цветов (при реализации видеорядов). Пути решения проблемы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дар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G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дает разрешение 640х480 пикселей (точек) при 16 цветах или 320х200 при 256 цветах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Стандарт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VGA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(видеопамять 512 Кбайт, 8 би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ксель) дает разрешение 640х480 при 256 цветах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35244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24-битные видеоадаптеры (видеопамять 2 Мбайт, 24 бит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пиксель) позволяют использовать 16 млн. цветов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2. Объем памяти (60-300 Кбайт для статического изображения одного полного экрана)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Геоинформационные технологии 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редметные области применения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лектронные карты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родское хозяйство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государственный земельный кадастр;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экология и т.д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Понятие ГИС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Геоинформационная система (ГИС) – это ИС, в которой используется информация с явно выраженной пространственно-временной природой, а также методы и средства работы с такими данным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ы пространственной информации: топография, гидрография, инфраструктура, коммуникации, размещение объектов и т.п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Примеры ГИС - ИС для федерального и муниципального управления, ИС военного назначения и т.д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Основная проблема – формализация предметной области и ее отражение на электронной карте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27:18Z</dcterms:created>
  <dc:creator>lisizina</dc:creator>
  <dc:description/>
  <dc:language>en-US</dc:language>
  <cp:lastModifiedBy>lisizina</cp:lastModifiedBy>
  <dcterms:modified xsi:type="dcterms:W3CDTF">2009-11-05T09:48:29Z</dcterms:modified>
  <cp:revision>145</cp:revision>
  <dc:subject/>
  <dc:title>ТЕОРИЯ И ПРАКТИКА КОМПЕТЕНТНОСТНОГО  ОБУЧЕНИЯ И АТТЕСТАЦИЙ НА ОСНОВЕ СЕТЕВЫХ ИНФОРМАЦИОННЫХ СИСТЕМ</dc:title>
</cp:coreProperties>
</file>